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1B66-7AA8-4052-A71D-EA604982ADD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should take 2 to 3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423E-FA61-42F7-BE41-698880942BE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read the Easier English versions of the interview, then read the originals and note the differences in vocabulary and sentence struc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4BED-A27E-4B49-8B33-1A6E4C8BDA4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imings: lead-in/vocabulary: 15 - 30 mins; speaking: 15 - 30 mins; reading: 15 - 30 mins; grammar focus and practice: 15 - 30 mins; writing: 30 – 60 m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042A-8750-469C-B90C-02C64871B1B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f learners don’t know words, feed in: a) demonstration, strike, boycott, march et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) support, join in, disperse crowds, water canon, rubber bullets, sack, arrest, imprison et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FA43-62B7-4C3D-8262-F1807B20B61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point out countries where they heard about protests and discuss why people were protes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436AC-7C1A-42A5-B3EA-F3E24A94757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fferent learners can read selected articles in pairs and discuss, or all learners can skim-read all 6 articles, then discuss: who? how? why? for e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6696-6DBF-4438-B845-E4DF6C02C81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uide learners to discuss the form/structure (and the meaning/function and phonolog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99FD-F7AE-423F-8ACA-7B07E3A926B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eck learners understand the meaning/function, form/structure and phonology (utterance stress – usually on past participles; contractions; pronunciation of “ed” ending of regular past participles etc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67E1-CFB4-4BAA-BDB6-EC0A2570F72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write their 3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conditional sentences on the board or on flip-chart paper, and then correct any errors in each other’s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9D88-0CE7-4F92-A34E-416FBFFDBF8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rticles can be blu-tacked to the wall afterwards for all learners to read and decide: which would be most interesting for people to rea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roups can then correct any errors in the art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E0FD-6916-47E3-B970-28D71ADD2E4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C6C4-050D-416C-8B47-526C07BEE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836E-0253-4E18-A3D9-BA87D1D3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BACD-16EC-4727-9D6E-175761011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FD63-6F02-4E4B-AAD1-3D8662193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8975-0974-4D52-AC0B-DF7AAFBF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9DDC-1F0A-4385-8660-79ADD762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AB25-1779-4735-A7F8-344A6B08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5E6C-9530-4DB9-AA24-842F1288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B5EF-E1B1-446D-AE7C-FC42101D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F047-C289-4DC6-B7B8-2008DA59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622E-1523-41FF-BC2E-4D681660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AD9F-8334-494C-A052-7EC00215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9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7A3A-C2DB-4A8D-ABDD-4579C5253A1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Photo_story_:_Turkey_has_lost_its_fear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Photo_story_:_Turkey_has_lost_its_fear" TargetMode="External"/><Relationship Id="rId2" Type="http://schemas.openxmlformats.org/officeDocument/2006/relationships/hyperlink" Target="http://eewiki.newint.org/index.php/Social_media_in_Turkey" TargetMode="External"/><Relationship Id="rId3" Type="http://schemas.openxmlformats.org/officeDocument/2006/relationships/hyperlink" Target="http://eewiki.newint.org/index.php/Rio_communities_come_together_in_protest" TargetMode="External"/><Relationship Id="rId4" Type="http://schemas.openxmlformats.org/officeDocument/2006/relationships/hyperlink" Target="http://eewiki.newint.org/index.php/Egypt:_what_happened_to_democracy,_freedom,_stability%3F" TargetMode="External"/><Relationship Id="rId5" Type="http://schemas.openxmlformats.org/officeDocument/2006/relationships/hyperlink" Target="http://eewiki.newint.org/index.php/Indonesians_won%27t_stop_fighting" TargetMode="External"/><Relationship Id="rId6" Type="http://schemas.openxmlformats.org/officeDocument/2006/relationships/hyperlink" Target="http://eewiki.newint.org/index.php/G8_hunger_summit:_protest_and_praise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Protest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ew Internationalist Easier Englis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Intermediate Ready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938320" y="476280"/>
            <a:ext cx="6012000" cy="1511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6227640" y="5060880"/>
            <a:ext cx="2730600" cy="162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3"/>
          <a:stretch/>
        </p:blipFill>
        <p:spPr>
          <a:xfrm>
            <a:off x="101520" y="5122800"/>
            <a:ext cx="2598840" cy="1731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4"/>
          <a:stretch/>
        </p:blipFill>
        <p:spPr>
          <a:xfrm>
            <a:off x="135000" y="1160640"/>
            <a:ext cx="2265480" cy="1511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5"/>
          <a:stretch/>
        </p:blipFill>
        <p:spPr>
          <a:xfrm>
            <a:off x="6948360" y="2274840"/>
            <a:ext cx="17193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Homework: read the Easier English texts again – then click on the original at the end of each article and read that: compare vocabulary and grammar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23640" y="3357720"/>
            <a:ext cx="8569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urkey: </a:t>
            </a:r>
            <a:r>
              <a:rPr b="0" lang="en-GB" sz="1500" spc="-1" strike="noStrike" u="sng">
                <a:solidFill>
                  <a:srgbClr val="3399ff"/>
                </a:solidFill>
                <a:uFillTx/>
                <a:latin typeface="Calibri"/>
                <a:hlinkClick r:id="rId1"/>
              </a:rPr>
              <a:t>http://eewiki.newint.org/index.php/Photo_story_:_Turkey_has_lost_its_fea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Social_media_in_Turke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razil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Rio_communities_come_together_in_prote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Egy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Egypt:_what_happened_to_democracy,_freedom,_stability%3F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donesia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Indonesians_won%27t_stop_fight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UK: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G8_hunger_summit:_protest_and_prai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2"/>
          <a:stretch/>
        </p:blipFill>
        <p:spPr>
          <a:xfrm>
            <a:off x="7596360" y="3645000"/>
            <a:ext cx="11476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esson pla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907560"/>
            <a:ext cx="84358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Vocabulary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Speak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Read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Gramma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Homework / extensi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826920" y="1971720"/>
            <a:ext cx="212724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, we need 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ords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– in groups, list as many words/phrases as possible for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50560" y="3573000"/>
            <a:ext cx="424476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How people can pro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g. hunger str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7960" y="4292280"/>
            <a:ext cx="424476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How other people can respond to prot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g. force-fee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6246720" y="2205000"/>
            <a:ext cx="2549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otests in the last year: where/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781200" y="1503360"/>
            <a:ext cx="748980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ad/think: who? how? 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125000"/>
            <a:ext cx="8362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urkey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1"/>
              </a:rPr>
              <a:t>http://eewiki.newint.org/index.php/Photo_story_:_Turkey_has_lost_its_f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2"/>
              </a:rPr>
              <a:t>http://eewiki.newint.org/index.php/Social_media_in_Turk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Brazil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3"/>
              </a:rPr>
              <a:t>http://eewiki.newint.org/index.php/Rio_communities_come_together_in_prot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Egypt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4"/>
              </a:rPr>
              <a:t>http://eewiki.newint.org/index.php/Egypt:_what_happened_to_democracy,_freedom,_stability%3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ndonesia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5"/>
              </a:rPr>
              <a:t>http://eewiki.newint.org/index.php/Indonesians_won%27t_stop_figh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UK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6"/>
              </a:rPr>
              <a:t>http://eewiki.newint.org/index.php/G8_hunger_summit:_protest_and_pra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think about other op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50920" y="1341360"/>
            <a:ext cx="8642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f they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hadn’t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protest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e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, no-one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ould have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know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f they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hadn’t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gone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to the streets, nothing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ould have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ange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f they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hadn’t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one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anything, the government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ould have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tinue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What’s the gramma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conditional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126828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+ past perfect (had/n’t + past participl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If they hadn’t protes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+ past conditional (would/n’t have + past particip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no-one would have know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Is this past, present or future? P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Did they protest? 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Did other people know because of the protests? 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discuss all the protests and make more 3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conditional sentences about what happened or what didn’t happe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8360" y="3068640"/>
            <a:ext cx="82072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urke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razi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ree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donesi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UK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ther protests you know abo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5076720" y="3357720"/>
            <a:ext cx="296568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small groups, write an article for a college / school newspap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5400" spc="-1" strike="noStrike">
                <a:solidFill>
                  <a:srgbClr val="000000"/>
                </a:solidFill>
                <a:latin typeface="Calibri"/>
              </a:rPr>
              <a:t>Protests around the world”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e about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different types of prot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give examples from the articles you re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include at least 2 3</a:t>
            </a:r>
            <a:r>
              <a:rPr b="1" lang="en-GB" sz="36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 condition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4284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9:06:36Z</dcterms:created>
  <dc:creator>Linda Ruas</dc:creator>
  <dc:description/>
  <dc:language>en-US</dc:language>
  <cp:lastModifiedBy>Linda Ruas</cp:lastModifiedBy>
  <dcterms:modified xsi:type="dcterms:W3CDTF">2013-07-25T09:10:26Z</dcterms:modified>
  <cp:revision>37</cp:revision>
  <dc:subject/>
  <dc:title>People who change the world</dc:title>
</cp:coreProperties>
</file>